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36.jpeg" ContentType="image/jpeg"/>
  <Override PartName="/ppt/media/image17.jpeg" ContentType="image/jpeg"/>
  <Override PartName="/ppt/media/image45.wmf" ContentType="image/x-wmf"/>
  <Override PartName="/ppt/media/image26.wmf" ContentType="image/x-wmf"/>
  <Override PartName="/ppt/media/image46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3.jpeg" ContentType="image/jpeg"/>
  <Override PartName="/ppt/media/image28.wmf" ContentType="image/x-wmf"/>
  <Override PartName="/ppt/media/image10.png" ContentType="image/png"/>
  <Override PartName="/ppt/media/image47.png" ContentType="image/png"/>
  <Override PartName="/ppt/media/image49.jpeg" ContentType="image/jpeg"/>
  <Override PartName="/ppt/media/image34.wmf" ContentType="image/x-wmf"/>
  <Override PartName="/ppt/media/image42.wmf" ContentType="image/x-wmf"/>
  <Override PartName="/ppt/media/image43.jpeg" ContentType="image/jpeg"/>
  <Override PartName="/ppt/media/image44.wmf" ContentType="image/x-wmf"/>
  <Override PartName="/ppt/media/image40.wmf" ContentType="image/x-wmf"/>
  <Override PartName="/ppt/media/image48.jpeg" ContentType="image/jpeg"/>
  <Override PartName="/ppt/media/image31.wmf" ContentType="image/x-wmf"/>
  <Override PartName="/ppt/media/image38.jpeg" ContentType="image/jpeg"/>
  <Override PartName="/ppt/media/image39.wmf" ContentType="image/x-wmf"/>
  <Override PartName="/ppt/media/image5.wmf" ContentType="image/x-wmf"/>
  <Override PartName="/ppt/media/image35.wmf" ContentType="image/x-wmf"/>
  <Override PartName="/ppt/media/image9.jpeg" ContentType="image/jpeg"/>
  <Override PartName="/ppt/media/image11.jpeg" ContentType="image/jpeg"/>
  <Override PartName="/ppt/media/image8.wmf" ContentType="image/x-wmf"/>
  <Override PartName="/ppt/media/image27.jpeg" ContentType="image/jpeg"/>
  <Override PartName="/ppt/media/image50.jpeg" ContentType="image/jpeg"/>
  <Override PartName="/ppt/media/image13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0.jpeg" ContentType="image/jpeg"/>
  <Override PartName="/ppt/media/image37.wmf" ContentType="image/x-wmf"/>
  <Override PartName="/ppt/media/image23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9508-E1AD-4346-9428-E9A6D7362174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87804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 INTERNACIONALES AGRICOLAS: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XPORTACIONES DE PAPRIKA SIGUEN AUMENTAN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muchos pensábamos que la producción de páprika había alcanzado su techo, los volúmenes exportados vienen aumentando mes tras mes y los valores unitarios (FOB) alcanzan niveles que no se registraban desde el año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 datos hasta el 20 de mayo, las exportaciones alcanzan las 11 mil toneladas, faltando 4 mil para igualar las cifras de los años 2002 y 2003. De mantenerse esta situación, podríamos cerrar el año con 20 mil toneladas exportadas y superar los US$ 30 mill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59E5-2FE4-4B8A-92F7-E98F949B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97C-7520-4C9E-B24A-FC4D8F64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2311-F144-427E-B424-F808CA4D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DCD1-5CB5-4E49-BADB-BB1AA176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F6A6-8EE9-48E2-99D6-0FF010A9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2F44-BA37-490D-B690-A87E0001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45D9-8482-4E78-9FF2-A53747D5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6591-849F-4409-A063-F0A68E74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4216-B981-4B75-90FD-9E72E71D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A9CF-7897-499E-99BC-F4511749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004D-3873-4A5C-9C87-5AB620A7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1B80-B146-4662-B49C-F9CB6A14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74C9-70A4-4FA2-961E-43D6D0F8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DDBF-CFE0-4EC7-899A-EEA50DC3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772F-54D6-46B9-AF4F-74A42EDF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4D16-1BA4-4ABB-AA58-CB4A3C64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E9C1-2799-447E-8573-93F04BD3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45479-6797-42D5-BA3B-3D3A5B21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57E77-6D6A-4A05-813E-DF052B43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4A8F4-4010-429D-BE92-CD05C33B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B03A1-C28D-469A-B989-3FD0C097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39E97-B47F-49DC-B074-AAB9F5EC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0DAB-B5E9-43B5-80D3-9A9809CE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23AE6-7296-470F-AA17-A495A8D1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B39D3-BF7F-4FA5-9E68-4282E6BF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2D952-6958-481D-9BDB-AF64BC8F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9045C-F1D8-4B77-8EE0-02E89A56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69F06-6048-4D0D-B7D2-08D94E74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8F3C5-DDA0-49B2-BCE3-5FBDA295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35BA0-8C6D-4338-8E6B-DA0DF9E7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E673F-ED37-4F81-8591-23556327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F5E7C-2337-4E96-B0CC-ADE0102F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2E124-D1A8-488D-8320-A851A9B4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FA3F-9C18-45E4-A3B6-B29CFC07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23DF6-F6F3-43A2-839C-3068A6AB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AA19B-7FE5-441F-8865-FEC7CEB3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28880-15B9-4237-8746-0FDA0199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82904-0BE0-45DF-997F-28068EDA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D2282-29DC-47DE-A45F-4FEA0C70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5BD60-8270-4499-9ED2-4295CE7E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B6A35-07F1-41E2-8A25-209E876D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2ACD7-D789-43AE-A7BF-7A49B3B7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B61FD-8D9E-455D-A4EF-6BFABFA1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82CA0-DE26-4714-A04F-C66E236B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59E8-7801-4642-8C3F-BF2614E5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7D6EC-A6A6-4A27-B671-D3B1570A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520AA-4DE0-4A33-93F4-F9F06320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74F1E-C122-4ADF-8644-4B4B70DD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32AFA-79F4-48F6-83CB-B61C193B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41BF7-C9EF-4BAB-AA4E-02D1FCAC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4A8DD-14F6-469B-A4D7-3C9CE597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D09F2-0292-449C-B3F7-51DED590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46466-8CE1-4459-A2DE-DFF348EB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B3D4A-A8F5-45EC-BA86-7680D994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7CAB4-7135-4C33-A930-48FE77D3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F6F-3F8F-49C7-964C-1736FD1C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ECA35-6A6C-4E6A-ADB9-20E29C2F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3200E-EEAE-4720-BF51-8D8EBF7D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A6792-5B34-4910-A33B-E4EA943B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79ECB-43FF-4287-BAC8-B89AAB48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A501E-DD29-4F71-AE9A-7C0ED18E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BCB3D-830B-4F20-8F1F-E9444DF4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98F20-2ABD-4782-94C1-16651966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9A6ED-0831-4B3E-9680-F7067417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95F9B-E44F-4890-AE6A-C9EB05CB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DE1AB-219F-4F7F-B859-9505D301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448F-63BA-4B9C-B33A-5EC991CA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7DC66-2DA2-4219-B887-CCBD07E2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B3117-2BCA-40CF-9F15-00A41C11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5033E-55A9-49E1-A22B-C1BB3471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9303D-13C9-40D9-8C27-41F18918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511E2-9431-49CE-A523-857852D5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3E2D5-4E20-42F7-B905-6A1EC2FD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E1E12-F8B4-4246-8884-C1EADEDF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FA6E3-40BC-4E34-A493-8BB040CE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E22E0-150F-4382-BC16-FF0F167E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88B32-CAD4-4646-BA29-BDB39ADF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6202-B58C-4D37-8A02-764EAD93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E626C-0BAF-4BA2-99BA-F68B7A6B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5397E-68DF-40B5-9AF0-D3529DB1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C7E4A-B34E-4385-AF70-7BF88528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5BE11-90D0-4EE1-8DCE-03567563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7001E-4A0E-45D8-8580-80442FD6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B742D-A1FC-48F7-82F7-E4685E50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E7F6D-E165-4CD2-8AF4-4640556D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969C2-2FA1-4C38-83AB-FB6783F8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541CD-7154-4B63-9889-F7AF29DD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3D1B3-76FC-4B0F-8DCA-2775B1B3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B11-5341-4894-99E5-439B80F6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921BE-4D76-4AB4-906B-69B2DA42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74345-F8DB-4608-824A-A368F5DA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77867-3751-4882-9B00-92C0A887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33F6C-4B70-41CB-8E6D-A70CCA0F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4300C-9B53-4FEE-A7C6-FFD41D96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1620B-DB38-4654-B8E3-CFEDB48D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93AF7-155E-47CA-A238-3D727475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ACAD-946F-4622-A23E-39F0D4196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41F1-9E92-4E9E-A8E3-1032F4982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89D8-50B4-4187-BB17-F4A89E728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D46F-ED73-4560-B092-524A9A7883F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8048-EF75-4E7D-9A49-576B490EE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D95F-AA64-49C9-8F2F-12D86DCFE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E170-BE5D-4F80-83E0-E0444EA33E6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902B-B6B8-4981-B5EA-FBFB97DB43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449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50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45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46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6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47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47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48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50920" y="-171360"/>
            <a:ext cx="687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CAF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-1800" y="969840"/>
            <a:ext cx="9145800" cy="5785200"/>
            <a:chOff x="-1800" y="969840"/>
            <a:chExt cx="9145800" cy="5785200"/>
          </a:xfrm>
        </p:grpSpPr>
        <p:sp>
          <p:nvSpPr>
            <p:cNvPr id="49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94" name=""/>
            <p:cNvGraphicFramePr/>
            <p:nvPr/>
          </p:nvGraphicFramePr>
          <p:xfrm>
            <a:off x="0" y="969840"/>
            <a:ext cx="9144000" cy="536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69840"/>
                      <a:ext cx="9144000" cy="536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500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8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509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979640" y="0"/>
            <a:ext cx="716436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XPORTACION DE PAPRIKA EN KG Y PRECIOS REFERENCIALES FOB US$/KG AÑOS 2002, 2003 Y 2004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7360" y="915840"/>
            <a:ext cx="8966160" cy="5895360"/>
            <a:chOff x="117360" y="915840"/>
            <a:chExt cx="8966160" cy="5895360"/>
          </a:xfrm>
        </p:grpSpPr>
        <p:graphicFrame>
          <p:nvGraphicFramePr>
            <p:cNvPr id="518" name=""/>
            <p:cNvGraphicFramePr/>
            <p:nvPr/>
          </p:nvGraphicFramePr>
          <p:xfrm>
            <a:off x="117360" y="915840"/>
            <a:ext cx="8966160" cy="533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7360" y="915840"/>
                      <a:ext cx="8966160" cy="53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0" name=""/>
            <p:cNvSpPr/>
            <p:nvPr/>
          </p:nvSpPr>
          <p:spPr>
            <a:xfrm>
              <a:off x="136440" y="6504120"/>
              <a:ext cx="534996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ADEX – ADUANAS           *Datos hasta jul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42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52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24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531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3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539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1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79280" y="43920"/>
            <a:ext cx="70930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CAO EN GRANO: PRECIO NACIONAL EN CHACRA Y PRECIO INTERNACIONAL (US$ / LIBRA) AÑOS 1993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440" y="836640"/>
            <a:ext cx="9112320" cy="6154920"/>
            <a:chOff x="1440" y="836640"/>
            <a:chExt cx="9112320" cy="6154920"/>
          </a:xfrm>
        </p:grpSpPr>
        <p:graphicFrame>
          <p:nvGraphicFramePr>
            <p:cNvPr id="546" name=""/>
            <p:cNvGraphicFramePr/>
            <p:nvPr/>
          </p:nvGraphicFramePr>
          <p:xfrm>
            <a:off x="1440" y="836640"/>
            <a:ext cx="9112320" cy="547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0" y="836640"/>
                      <a:ext cx="9112320" cy="54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8" name=""/>
            <p:cNvSpPr/>
            <p:nvPr/>
          </p:nvSpPr>
          <p:spPr>
            <a:xfrm>
              <a:off x="1440" y="6107040"/>
              <a:ext cx="181908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Fuentes: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Internacional : IC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Nacional : MINA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555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7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562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4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60" y="765000"/>
            <a:ext cx="9140040" cy="6092280"/>
            <a:chOff x="3960" y="765000"/>
            <a:chExt cx="9140040" cy="6092280"/>
          </a:xfrm>
        </p:grpSpPr>
        <p:sp>
          <p:nvSpPr>
            <p:cNvPr id="566" name=""/>
            <p:cNvSpPr/>
            <p:nvPr/>
          </p:nvSpPr>
          <p:spPr>
            <a:xfrm>
              <a:off x="3960" y="6519960"/>
              <a:ext cx="158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67" name=""/>
            <p:cNvGraphicFramePr/>
            <p:nvPr/>
          </p:nvGraphicFramePr>
          <p:xfrm>
            <a:off x="31680" y="1262160"/>
            <a:ext cx="9033120" cy="5214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680" y="1262160"/>
                      <a:ext cx="9033120" cy="521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9" name=""/>
            <p:cNvSpPr/>
            <p:nvPr/>
          </p:nvSpPr>
          <p:spPr>
            <a:xfrm>
              <a:off x="7391520" y="765000"/>
              <a:ext cx="1752480" cy="10670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58600" y="85572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80360" y="105408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244000" y="1054080"/>
              <a:ext cx="9000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03,8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13,7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gt; 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692000" y="-162360"/>
            <a:ext cx="6551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ECHE: PRODUCCION NACIONAL (TM) Y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ECIOS ESTABLO (US$ / KG) ene 02 – jul  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578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79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1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3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7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1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5" dur="5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3" dur="5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7" dur="5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1" dur="500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5" dur="500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48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2692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SOCIACION CIVIL “TIERRA” MOLINO SAN MARCOS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Tar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553440" cy="333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58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59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362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4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979640" y="44280"/>
            <a:ext cx="7164360" cy="7261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78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79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1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712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STRUCTURA DEL VALOR AGREGADO DE LA MIN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73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7c80">
              <a:alpha val="5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419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9640" y="282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66520" y="260280"/>
            <a:ext cx="6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46836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-720" y="746280"/>
            <a:ext cx="9179640" cy="6337440"/>
            <a:chOff x="-720" y="746280"/>
            <a:chExt cx="9179640" cy="6337440"/>
          </a:xfrm>
        </p:grpSpPr>
        <p:sp>
          <p:nvSpPr>
            <p:cNvPr id="389" name=""/>
            <p:cNvSpPr/>
            <p:nvPr/>
          </p:nvSpPr>
          <p:spPr>
            <a:xfrm>
              <a:off x="0" y="4002120"/>
              <a:ext cx="9144000" cy="2855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2.-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Reactivos, bolas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acero, explosiv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576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Sustitu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de importacio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1554120"/>
              <a:ext cx="36576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3.-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Carros mineros, celd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de flotación, molin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Reparación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576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Producción baj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licencias pa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rcados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6400" y="2362320"/>
              <a:ext cx="36576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3170160"/>
              <a:ext cx="18288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4.- Ingenie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y consulto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49320" y="3184560"/>
              <a:ext cx="1828800" cy="807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99360" y="3182760"/>
              <a:ext cx="184464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57600" y="3182760"/>
              <a:ext cx="36576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acional (salvo especialidade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42721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4638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5373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574056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1070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50054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720" y="404028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5.- Entor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560" y="4368960"/>
              <a:ext cx="756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nergí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200" y="5079960"/>
              <a:ext cx="747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Puert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280" y="5433840"/>
              <a:ext cx="976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Urbanism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840" y="5815080"/>
              <a:ext cx="766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Vialidad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560" y="6181560"/>
              <a:ext cx="994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ducación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07160" y="4356000"/>
              <a:ext cx="18072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28800" y="4272120"/>
              <a:ext cx="0" cy="22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1600" y="4292640"/>
              <a:ext cx="6105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G. Electrógenos            C. Hidroeléctricas             Interconexión eléctrica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840" y="4699080"/>
              <a:ext cx="564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Agu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57600" y="4272120"/>
              <a:ext cx="0" cy="25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86400" y="4272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69200" y="4660920"/>
              <a:ext cx="4889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Sist. de bombeo                                   Redes de agua regional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20960" y="5027760"/>
              <a:ext cx="5091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Puertos múltiples                             Puertos mineros especializad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22480" y="5384880"/>
              <a:ext cx="7121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mpamentos              Desarrollos urbanos                        Integración urbana regional  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06520" y="5751360"/>
              <a:ext cx="595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Trochas                   Carreteras afirmadas                      Integración vial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1400" y="6118200"/>
              <a:ext cx="664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pacit. Laboral             Escuelas técnicas                          Universidades especializada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24480" y="537372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24480" y="574056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24480" y="610704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1.- Produ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ine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288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iner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576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Concentr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86400" y="746280"/>
              <a:ext cx="36576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tales refin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28800" y="746280"/>
              <a:ext cx="0" cy="6111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920" y="64483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960" y="6507000"/>
              <a:ext cx="1369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Medio Ambient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72360" y="6197760"/>
              <a:ext cx="27716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Mejoramiento (revegetación,                                                                                                reforestación, etc.)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50920" y="6522480"/>
              <a:ext cx="3924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Impacto negativo           Mínimo impact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441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42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4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18:03Z</dcterms:modified>
  <cp:revision>1179</cp:revision>
  <dc:subject/>
  <dc:title>Sin título de diapositiva</dc:title>
</cp:coreProperties>
</file>